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7.gif" ContentType="image/gif"/>
  <Override PartName="/ppt/media/image4.jpeg" ContentType="image/jpeg"/>
  <Override PartName="/ppt/media/image2.png" ContentType="image/png"/>
  <Override PartName="/ppt/media/image8.gif" ContentType="image/gif"/>
  <Override PartName="/ppt/media/image13.gif" ContentType="image/gif"/>
  <Override PartName="/ppt/media/image16.png" ContentType="image/png"/>
  <Override PartName="/ppt/media/image6.png" ContentType="image/png"/>
  <Override PartName="/ppt/media/image11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12.gif" ContentType="image/gif"/>
  <Override PartName="/ppt/media/image30.jpeg" ContentType="image/jpeg"/>
  <Override PartName="/ppt/media/image9.gif" ContentType="image/gif"/>
  <Override PartName="/ppt/media/image10.png" ContentType="image/png"/>
  <Override PartName="/ppt/media/image27.jpeg" ContentType="image/jpeg"/>
  <Override PartName="/ppt/media/image31.gif" ContentType="image/gif"/>
  <Override PartName="/ppt/media/image1.gif" ContentType="image/gif"/>
  <Override PartName="/ppt/media/image14.gif" ContentType="image/gif"/>
  <Override PartName="/ppt/media/image24.gif" ContentType="image/gif"/>
  <Override PartName="/ppt/media/image17.png" ContentType="image/png"/>
  <Override PartName="/ppt/media/image20.png" ContentType="image/png"/>
  <Override PartName="/ppt/media/image28.jpeg" ContentType="image/jpeg"/>
  <Override PartName="/ppt/media/image26.gif" ContentType="image/gif"/>
  <Override PartName="/ppt/media/image19.png" ContentType="image/png"/>
  <Override PartName="/ppt/media/image21.jpeg" ContentType="image/jpeg"/>
  <Override PartName="/ppt/media/image22.png" ContentType="image/png"/>
  <Override PartName="/ppt/media/image23.jpeg" ContentType="image/jpeg"/>
  <Override PartName="/ppt/media/image18.png" ContentType="image/png"/>
  <Override PartName="/ppt/media/image25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BFD6-14DB-413D-A5FB-B992E9E1D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76A9-2CAD-4C89-BC15-FCD439D4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89BA-242A-4C4D-831B-154D1601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92EF-C934-4281-9241-F92726973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7FAD-7030-4C18-ADDA-260065C3B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24AA-5E4C-4625-8045-4FA04DE6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D628-18A6-45FE-BAB8-EF9C5992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17A9-4C46-44A9-90D6-977C300A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313A-E59A-47E1-B3F5-5D2FAEBF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38C3-0F49-4B00-B9BD-506B1FAE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E15C-2954-429C-824D-E24DF844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594C-7D49-4DD7-B9BA-C3352064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FF85-65A4-4FA3-AE12-87B274BF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63D7-6664-4E70-BCEC-27FD59F2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4427-BAB2-4EB1-880D-6A4CEE15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5BF4-AEB5-481C-B124-BA82E0FCB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9282-8AC7-4B07-9BAB-70CA0D457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DA18-DBCA-4FC5-BBC0-64CFF60B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87E2-C1E0-49C3-9DA4-5184E9EF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7EC2-6D47-445A-9357-06E39E1E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3678-D9FF-4ADF-A9EC-34879C52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F4A1-19AB-4BC0-917C-3AEB07FB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8B6C-B49E-4BB9-A301-1B97D6FA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468C-6DFD-46B3-ACB0-08DFB306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7A00-8057-4F5C-AB15-4F3635C1477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31A2-3204-4A43-968E-4F37F62B672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28195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Physical Science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Newton’s Laws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And Forces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487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inertia</a:t>
            </a:r>
            <a:r>
              <a:rPr b="0" i="1" lang="en-US" sz="4000" spc="-1" strike="noStrike">
                <a:solidFill>
                  <a:srgbClr val="ffffcc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56386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f you are floating around in space outside the space shuttle, and go up to it and give it a kick, what will be the result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867280" y="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350532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eaeaea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space shuttle will go flying off, of course, since it has no weight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) You will go flying off in the opposite direction with a hurt foot, of course, since the space shuttle has the same amount of mass (and inertia) in space as it does here on earth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9903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IS VOLUME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The amount of space something takes up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IS DENSITY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The amount of mass per unit of volume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D = m / V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685440"/>
            <a:ext cx="80773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HAS MORE VOLUME:  A kilogram of lead, or a kilogram of bread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THE BREAD TAKES UP MORE SPACE, OF COURSE!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HAS A HIGHER DENSITY: A kilogram of lead, or a kilogram of bread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THE LEAD DOES—IT IS MORE COMPACT—it has more matter packed into a smaller space!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724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at is force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A </a:t>
            </a: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push or a pull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NE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force is the leftover  (or unbalanced) amount of force after you add up all the forces acting in a certain direction.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590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6840" y="30492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at is ACCELERATION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 CHANGE in motion!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at is ANY change in SPEED AND/OR DIRECTION!!!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Verdana"/>
              </a:rPr>
              <a:t>Only NET forces cause acceleration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No net force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means 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NO CHANGE in speed or direction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1" dur="2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indefinite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250" autoRev="1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20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ewton’s 2</a:t>
            </a:r>
            <a:r>
              <a:rPr b="0" lang="en-US" sz="4400" spc="-1" strike="noStrike" baseline="30000">
                <a:solidFill>
                  <a:srgbClr val="ffffcc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Law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BIGGER the amount of the force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BIGGER the acceleration!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BIGGER the mass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LESS the acceleration!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 fancy terms</a:t>
            </a:r>
            <a:r>
              <a:rPr b="0" lang="en-U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The acceleration of a body is directly proportional to the net force on it, and inversely proportional to the mas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867280" y="251460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77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ORCE UNI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Think of Newton’s 2</a:t>
            </a:r>
            <a:r>
              <a:rPr b="0" lang="en-US" sz="3600" spc="-1" strike="noStrike" baseline="30000">
                <a:solidFill>
                  <a:srgbClr val="eaeaea"/>
                </a:solidFill>
                <a:latin typeface="Verdana"/>
              </a:rPr>
              <a:t>nd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law:               F = m  a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N = kg m/s</a:t>
            </a:r>
            <a:r>
              <a:rPr b="1" lang="en-US" sz="36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Since mass is in kg, and a is in m/s/s, or m/s</a:t>
            </a:r>
            <a:r>
              <a:rPr b="0" lang="en-US" sz="3600" spc="-1" strike="noStrike" baseline="30000">
                <a:solidFill>
                  <a:srgbClr val="eaeaea"/>
                </a:solidFill>
                <a:latin typeface="Verdana"/>
              </a:rPr>
              <a:t>2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, F or Forces are measured in </a:t>
            </a:r>
            <a:r>
              <a:rPr b="1" lang="en-US" sz="3600" spc="-1" strike="noStrike" u="sng">
                <a:solidFill>
                  <a:srgbClr val="eaeaea"/>
                </a:solidFill>
                <a:uFillTx/>
                <a:latin typeface="Verdana"/>
              </a:rPr>
              <a:t>kg m/s</a:t>
            </a:r>
            <a:r>
              <a:rPr b="1" lang="en-US" sz="3600" spc="-1" strike="noStrike" u="sng" baseline="30000">
                <a:solidFill>
                  <a:srgbClr val="eaeaea"/>
                </a:solidFill>
                <a:uFillTx/>
                <a:latin typeface="Verdana"/>
              </a:rPr>
              <a:t>2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. 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Verdana"/>
              </a:rPr>
              <a:t>That is the SAME as a Newton, or N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419800" y="380880"/>
            <a:ext cx="3724200" cy="5715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914400"/>
            <a:ext cx="5791320" cy="55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F = m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100N = 100kg X 1.00m/s</a:t>
            </a:r>
            <a:r>
              <a:rPr b="1" lang="en-US" sz="2800" spc="-1" strike="noStrike" baseline="30000">
                <a:solidFill>
                  <a:srgbClr val="eaeaea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a = F/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1.00m/s</a:t>
            </a:r>
            <a:r>
              <a:rPr b="1" lang="en-US" sz="2800" spc="-1" strike="noStrike" baseline="30000">
                <a:solidFill>
                  <a:srgbClr val="eaeaea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= 100N / 100k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ewton’s 2</a:t>
            </a:r>
            <a:r>
              <a:rPr b="0" lang="en-US" sz="4400" spc="-1" strike="noStrike" baseline="30000">
                <a:solidFill>
                  <a:srgbClr val="ffffcc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Law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57913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s makes sense…the more massive something is, the </a:t>
            </a:r>
            <a:r>
              <a:rPr b="1" i="1" lang="en-US" sz="3200" spc="-1" strike="noStrike">
                <a:solidFill>
                  <a:srgbClr val="eaeaea"/>
                </a:solidFill>
                <a:latin typeface="Verdana"/>
              </a:rPr>
              <a:t>harder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it is to accelerate.  And the more force there is, the </a:t>
            </a:r>
            <a:r>
              <a:rPr b="1" i="1" lang="en-US" sz="3200" spc="-1" strike="noStrike">
                <a:solidFill>
                  <a:srgbClr val="eaeaea"/>
                </a:solidFill>
                <a:latin typeface="Verdana"/>
              </a:rPr>
              <a:t>easier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something will accelerat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Verdana"/>
              </a:rPr>
              <a:t>Zero net force means zero acceleration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876920" y="36576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3911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800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GALILEO: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nce he experimented to get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EVIDENCE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for his conclusions,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e is considered to be the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father of </a:t>
            </a:r>
            <a:br>
              <a:rPr sz="3200"/>
            </a:b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experimental physic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819680" y="1523880"/>
            <a:ext cx="39704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 = m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2 kg mass accelerating at 3 m/s</a:t>
            </a:r>
            <a:r>
              <a:rPr b="0" lang="en-US" sz="3200" spc="-1" strike="noStrike" baseline="30000">
                <a:solidFill>
                  <a:srgbClr val="eaeaea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has how much 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net force on it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2 kg mass accelerating at 3 m/s</a:t>
            </a:r>
            <a:r>
              <a:rPr b="0" lang="en-US" sz="3200" spc="-1" strike="noStrike" baseline="30000">
                <a:solidFill>
                  <a:srgbClr val="eaeaea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has how much net force on it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F = ma = 2kg X 3 m/s</a:t>
            </a:r>
            <a:r>
              <a:rPr b="0" lang="en-US" sz="36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 = 6 N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334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 = ma          W = m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5715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f you weigh 150 pounds, your mass is about 68 kg.  (1 kg = 2.2 lbs.)  What is your 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WEIGHT in Newton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here on Earth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638680" y="2209680"/>
            <a:ext cx="312444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059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f you weigh 150 pounds, your mass is about 68 kg.  (1 kg = 2.2 lbs.)  What is your WEIGHT in Newtons here on Earth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W = mg = 68kg X 10m/s</a:t>
            </a:r>
            <a:r>
              <a:rPr b="0" lang="en-US" sz="36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 = 680 N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F = ma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 = ma         a = F/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force of 16 N is pulling on a 2 kg wagon.  If there is no friction, how fast is the wagon accelerating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352680" y="33526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force of 16 N is pulling on a 2 kg wagon.  If there is no friction, how fast is the wagon accelerating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a = F/m = 16N / 2kg = 8 m/s</a:t>
            </a:r>
            <a:r>
              <a:rPr b="0" lang="en-US" sz="3600" spc="-1" strike="noStrike" baseline="30000">
                <a:solidFill>
                  <a:srgbClr val="ff0000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 = ma         a = F/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f the wagon above is going at a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CONSTANT VELOCITY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with the 16N pull, </a:t>
            </a:r>
            <a:r>
              <a:rPr b="1" i="1" lang="en-US" sz="3200" spc="-1" strike="noStrike">
                <a:solidFill>
                  <a:srgbClr val="eaeaea"/>
                </a:solidFill>
                <a:latin typeface="Verdana"/>
              </a:rPr>
              <a:t>how much friction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is there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SOLUTION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f the wagon above is going at a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CONSTANT VELOCITY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with the 16N pull, </a:t>
            </a:r>
            <a:r>
              <a:rPr b="1" i="1" lang="en-US" sz="3200" spc="-1" strike="noStrike">
                <a:solidFill>
                  <a:srgbClr val="eaeaea"/>
                </a:solidFill>
                <a:latin typeface="Verdana"/>
              </a:rPr>
              <a:t>how much friction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is there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16 N !  If going constant velocity, acceleration is 0, &amp; net force is 0 so all forces are BALANCED (equal)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in any 1 direction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2485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ewton’s 3</a:t>
            </a:r>
            <a:r>
              <a:rPr b="0" lang="en-US" sz="4400" spc="-1" strike="noStrike" baseline="30000">
                <a:solidFill>
                  <a:srgbClr val="ffffcc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Law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5943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Every action has an equal and opposite reaction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There are NO single forces. They are always an action/reaction pair.”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1304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799320" y="2362320"/>
            <a:ext cx="2344680" cy="26668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0" y="4881600"/>
            <a:ext cx="662940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For example, you touch the table with 1N of Force, it touches you back with 1N of Force SIMULTANEOUSLY (</a:t>
            </a:r>
            <a:r>
              <a:rPr b="0" i="1" lang="en-US" sz="3600" spc="-1" strike="noStrike">
                <a:solidFill>
                  <a:srgbClr val="eaeaea"/>
                </a:solidFill>
                <a:latin typeface="Verdana"/>
              </a:rPr>
              <a:t>not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a little later!)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886200" y="3429000"/>
            <a:ext cx="457200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10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40244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952880" y="4267080"/>
            <a:ext cx="251460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He also figured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Verdana"/>
              </a:rPr>
              <a:t>out that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480" y="762120"/>
            <a:ext cx="38811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25905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ewton’s 3</a:t>
            </a:r>
            <a:r>
              <a:rPr b="0" lang="en-US" sz="3200" spc="-1" strike="noStrike" baseline="30000">
                <a:solidFill>
                  <a:srgbClr val="eaeaea"/>
                </a:solidFill>
                <a:latin typeface="Verdana"/>
              </a:rPr>
              <a:t>rd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Law says that an action reaction pair would be 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hands pushing on barbell, barbell pushing on hand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n HOW can the barbell be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ACCELERATED upward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</a:t>
            </a:r>
            <a:r>
              <a:rPr b="1" i="1" lang="en-US" sz="3200" spc="-1" strike="noStrike">
                <a:solidFill>
                  <a:srgbClr val="eaeaea"/>
                </a:solidFill>
                <a:latin typeface="Verdana"/>
              </a:rPr>
              <a:t>OTHER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action reaction pairs are involved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971800" y="0"/>
            <a:ext cx="297180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ore on Newton’s 3</a:t>
            </a:r>
            <a:r>
              <a:rPr b="0" lang="en-US" sz="4400" spc="-1" strike="noStrike" baseline="30000">
                <a:solidFill>
                  <a:srgbClr val="ffffcc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If you smash the wall with your fist with 80 N of force, the wall will hit you right back with 80 N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But what if you hold a piece of paper in the air and try to hit it with 80 N?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f the paper 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cannot support or hit you back with 80 N, can YOU really hit IT with 80 N?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If the paper can only hit you back with 5 N, what happens to the other 75 N from your punch??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95880" y="4691160"/>
            <a:ext cx="3048120" cy="21668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261480" y="480060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IN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ow do they accelerate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914400" y="1376280"/>
            <a:ext cx="7391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0199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Force of friction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5791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Opposes motion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Occurs between surfaces in contac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410080" y="108576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791320" y="4673520"/>
            <a:ext cx="335268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09320" y="0"/>
            <a:ext cx="58676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ravitational force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4114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Is the WEAKEST of all the forces, but acts over the GREATEST distances!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4343400" cy="28954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04920" y="51055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You are pulling and pulled by EVERY ATOM IN THE UNIVERSE!!!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4419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lectromagnetic forces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09680" y="2895120"/>
            <a:ext cx="6934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re the forces that act due to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electron configuration in atom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se forces are responsible for the PROPERTIES or characteristics of elements, compounds, and materia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4800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5791320" y="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-360" y="304560"/>
            <a:ext cx="43434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This force makes paint stick to a wall, makes diamonds extremely hard, makes gold malleable, rubber stretchy, water a bipolar molecule, etc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443480" y="0"/>
            <a:ext cx="47005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590920" y="0"/>
            <a:ext cx="4572000" cy="35560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3551400"/>
            <a:ext cx="4724280" cy="3306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5791320" y="350532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5715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ngs in motion tend to STAY IN MOTION; they do NOT tend to SLOW DOWN OR STOP ON THEIR OW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 fact, Galileo figured out that it TAKES a force to make something slow down or stop.  The usual force is (he discovered):  FRICTIO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32004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So in fact, GALILEO figured out the principle behind what we call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Verdana"/>
              </a:rPr>
              <a:t>Newton’s 1</a:t>
            </a:r>
            <a:r>
              <a:rPr b="1" i="1" lang="en-US" sz="4400" spc="-1" strike="noStrike" baseline="30000">
                <a:solidFill>
                  <a:srgbClr val="eaeaea"/>
                </a:solidFill>
                <a:latin typeface="Verdana"/>
              </a:rPr>
              <a:t>st</a:t>
            </a:r>
            <a:r>
              <a:rPr b="1" i="1" lang="en-US" sz="4400" spc="-1" strike="noStrike">
                <a:solidFill>
                  <a:srgbClr val="eaeaea"/>
                </a:solidFill>
                <a:latin typeface="Verdana"/>
              </a:rPr>
              <a:t> Law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7086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EWTON’S 1</a:t>
            </a:r>
            <a:r>
              <a:rPr b="0" lang="en-US" sz="4400" spc="-1" strike="noStrike" baseline="30000">
                <a:solidFill>
                  <a:srgbClr val="ffffcc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LA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648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 object at rest tends to stay at rest, and an object in motion tends to stay in motion in a straight line at constant velocity unless acted on by an outside net forc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47242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Arial"/>
              </a:rPr>
              <a:t>INERTIA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refers to 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Newton’s 1</a:t>
            </a:r>
            <a:r>
              <a:rPr b="0" lang="en-US" sz="4000" spc="-1" strike="noStrike" u="sng" baseline="30000">
                <a:solidFill>
                  <a:srgbClr val="ffffcc"/>
                </a:solidFill>
                <a:uFillTx/>
                <a:latin typeface="Arial"/>
              </a:rPr>
              <a:t>st</a:t>
            </a:r>
            <a:r>
              <a:rPr b="0" lang="en-US" sz="4000" spc="-1" strike="noStrike" u="sng">
                <a:solidFill>
                  <a:srgbClr val="ffffcc"/>
                </a:solidFill>
                <a:uFillTx/>
                <a:latin typeface="Arial"/>
              </a:rPr>
              <a:t> Law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ertia is the TENDENCY of ANY MASS to KEEP DOING what it is ALREADY DOING (resting, or going in a straight line at a constant speed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Verdana"/>
              </a:rPr>
              <a:t>A FORCE is a push or a pull, and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ERTIA IS </a:t>
            </a: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NOT A FORCE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!!!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T IS A </a:t>
            </a:r>
            <a:r>
              <a:rPr b="1" i="1" lang="en-US" sz="3200" spc="-1" strike="noStrike">
                <a:solidFill>
                  <a:srgbClr val="eaeaea"/>
                </a:solidFill>
                <a:latin typeface="Verdana"/>
              </a:rPr>
              <a:t>TENDENCEY OR CHARACTERISTIC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!</a:t>
            </a:r>
            <a:r>
              <a:rPr b="1" i="1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…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INERTIA…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ertia is a measure of an object’s </a:t>
            </a: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RESISTANCE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o</a:t>
            </a: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 CHANGE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in state of motion.  (Things—like people—don’t want to change!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word inertia comes from the Italian word for “</a:t>
            </a: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lazines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.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ertia is DIRECTLY PROPORTIONAL TO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Verdana"/>
              </a:rPr>
              <a:t>MASS ONLY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.  </a:t>
            </a: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(More mass means more inertia.)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Verdana"/>
              </a:rPr>
              <a:t>Inertia has nothing to do with size, speed, or anything els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at is the difference between </a:t>
            </a:r>
            <a:r>
              <a:rPr b="1" i="1" lang="en-US" sz="4400" spc="-1" strike="noStrike">
                <a:solidFill>
                  <a:srgbClr val="ffffcc"/>
                </a:solidFill>
                <a:latin typeface="Arial"/>
              </a:rPr>
              <a:t>mass and weight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?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4190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WEIGH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is the pull due to gravit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eight CHANGES due to location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eight is a FORCE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1752480"/>
            <a:ext cx="4495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MAS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is the amount of MATTER in an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ss does NOT change, regardless of loca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ss is measured in kg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19:36:55Z</dcterms:created>
  <dc:creator>Ria Evans</dc:creator>
  <dc:description/>
  <dc:language>en-US</dc:language>
  <cp:lastModifiedBy>VEvans</cp:lastModifiedBy>
  <dcterms:modified xsi:type="dcterms:W3CDTF">2010-04-30T18:40:33Z</dcterms:modified>
  <cp:revision>82</cp:revision>
  <dc:subject/>
  <dc:title>Slide 1</dc:title>
</cp:coreProperties>
</file>